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ct" ContentType="image/x-pict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0E5-2C1F-41E4-A997-A8AEC11D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970-D37A-4E0F-9751-D67D5F19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BFA-A77B-4E28-9CC6-A865D4BB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754-3479-4D6E-8899-0F21E182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6ABF-0072-4EBB-A354-C8BCFB76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BED8-2C1A-423A-9A8C-D393199A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7189-C01C-472A-887C-19A1B89A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1490-5C44-4E3B-9442-1FFB9F28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97A9-68FE-41F5-894A-42C44602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76BE-0104-453E-B7E8-8CB3F20B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DBED-A495-4511-81A9-9B4146F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1E9-DC8E-4632-8A75-C6A6565F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0F32-FC8F-47FA-A370-186D8CE3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158B-A7AB-44A4-BE02-225E2E1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3D4D-4617-43F6-8F68-38EFDB70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0D1B-BECB-4B34-85CC-A2BF16F8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49C8-877D-4ECB-A28F-5A208EBF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AEC-5BFC-43A1-9D45-A370587F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AC3-A821-4CBB-ABBF-851BF4C4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F04-5465-4278-9FA9-91DFC77E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1F4-1CE8-4664-89B1-026FB3F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49F-13D8-447C-933D-AAF16D78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E44-AAAF-4939-B64B-0FF3C53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B4C-7A3D-45BF-996B-FE4BB33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8D9-8DE3-4309-B633-DFBB69CDC08C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34E1-A17B-482F-AE77-11813FC896BD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0492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685800"/>
            <a:ext cx="556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263520"/>
            <a:ext cx="49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io fuel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9120" y="20541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2133720"/>
            <a:ext cx="3200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2438280"/>
            <a:ext cx="495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y James and Michael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bio fuels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3733920"/>
            <a:ext cx="1581120" cy="168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76920" y="4952880"/>
            <a:ext cx="2673360" cy="1905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962520" y="2590920"/>
            <a:ext cx="4502160" cy="17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mperature of g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96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you know that there is such thing as temperature of gas? Well there is and it’s right 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579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sp>
        <p:nvSpPr>
          <p:cNvPr id="97" name=""/>
          <p:cNvSpPr/>
          <p:nvPr/>
        </p:nvSpPr>
        <p:spPr>
          <a:xfrm>
            <a:off x="2971800" y="2743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76176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 fuels to the rescu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24080" y="19047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 companies  are paying too much for gas. So they should make cars run on bio fue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ney problems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71800" y="17521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 companies  are losing millions of dollars in cash for fue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43200" y="8305920"/>
          <a:ext cx="278136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8305920"/>
                    <a:ext cx="2781360" cy="43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e3e5c"/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8258040" y="1900080"/>
            <a:ext cx="200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651040"/>
            <a:ext cx="156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604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 fuels are good for the atmosphe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al gas tank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5280" y="2209680"/>
            <a:ext cx="2898720" cy="43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 fuel limi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9920" y="16761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bio fuels can only be used in diesel car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39:29Z</dcterms:created>
  <dc:creator>Englewood Schools</dc:creator>
  <dc:description/>
  <dc:language>en-US</dc:language>
  <cp:lastModifiedBy>Englewood Schools</cp:lastModifiedBy>
  <dcterms:modified xsi:type="dcterms:W3CDTF">2010-05-24T17:44:07Z</dcterms:modified>
  <cp:revision>10</cp:revision>
  <dc:subject/>
  <dc:title>  </dc:title>
</cp:coreProperties>
</file>