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pct" ContentType="image/x-pict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945-8EFF-4863-974C-97E02ABE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213-0B00-4B18-A8D9-F6424D6B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BA7A-3BC6-45AC-9745-0CA8D7BB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6F2B-3C84-4338-8024-951F536E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4EAB-0785-4F6D-BEF0-48E7EFA5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3A64-7A45-4678-9BC9-18B497AC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1872-5985-4648-99C8-8331170F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5348-6F56-4455-AE1E-0CF078EB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8742-E483-40E6-8A1C-9323F1F4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DCF7-D059-48E5-AD67-72595E67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C772-72C6-4285-825C-E2C17B1A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E76E-E44D-4D83-A6C9-10497DA2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73ED-D12E-4D94-AE66-113FEE91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58DC-48BE-454C-BA16-24355DEE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AC1E-5C6C-4D31-8B30-4ECB269A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BD7C-4E74-46B4-A7D9-C1AD3492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1263-AB42-4F6A-9C82-EABEB772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7BC-34B7-4A3C-AC82-45F7A896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707-D370-4A1C-B86F-38475325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E2F-C9E2-42AE-969B-9819573A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D50-030C-4EF4-9747-F1D8F224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B63-B587-4DD1-8C5B-A5DBC8D8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001B-6255-4F20-A873-C217AFDD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092-6529-435C-A111-324498F3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A027-4A19-4F41-B2D2-22915220D651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A752-5586-4978-86E6-B805B46EDC6D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30492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685800"/>
            <a:ext cx="556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05280" y="263520"/>
            <a:ext cx="49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Bio fuel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29120" y="205416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2133720"/>
            <a:ext cx="3200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2438280"/>
            <a:ext cx="495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By James and Michael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bout bio fuels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09680" y="3733920"/>
            <a:ext cx="1581120" cy="1684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876920" y="4952880"/>
            <a:ext cx="2673360" cy="1905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962520" y="2590920"/>
            <a:ext cx="4502160" cy="17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320" y="457200"/>
            <a:ext cx="61722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mperature of ga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2967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d you know that there is such thing as temperature of gas? Well there is and it’s right 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5105520" cy="5790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  <p:sp>
        <p:nvSpPr>
          <p:cNvPr id="97" name=""/>
          <p:cNvSpPr/>
          <p:nvPr/>
        </p:nvSpPr>
        <p:spPr>
          <a:xfrm>
            <a:off x="2971800" y="27432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09680" y="761760"/>
            <a:ext cx="6934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o fuels to the rescue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124080" y="190476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 companies  are paying too much for gas. So they should make cars run on bio fuel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ney problems.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71800" y="175212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 companies  are losing millions of dollars in cash for fuels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743200" y="8305920"/>
          <a:ext cx="278136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8305920"/>
                    <a:ext cx="2781360" cy="4343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e3e5c"/>
                    </a:outerShdw>
                  </a:effectLst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8258040" y="1900080"/>
            <a:ext cx="200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2651040"/>
            <a:ext cx="1566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604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o fuels are good for the atmospher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297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atural gas tank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245280" y="2209680"/>
            <a:ext cx="2898720" cy="434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o fuel limit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19920" y="167616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bio fuels can only be used in diesel car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39:29Z</dcterms:created>
  <dc:creator>Englewood Schools</dc:creator>
  <dc:description/>
  <dc:language>en-US</dc:language>
  <cp:lastModifiedBy>Englewood Schools</cp:lastModifiedBy>
  <dcterms:modified xsi:type="dcterms:W3CDTF">2010-05-24T17:44:07Z</dcterms:modified>
  <cp:revision>10</cp:revision>
  <dc:subject/>
  <dc:title>  </dc:title>
</cp:coreProperties>
</file>