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ct" ContentType="image/x-pict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499-6012-4482-BF20-E06BD411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D78-5795-4CA1-96F8-1B239D8E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74D-5058-4217-A52E-3FCE346C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200-2B0B-4C2A-BB6D-E0B524F6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34E7-94FA-457E-AE1F-E982A13C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F0D1-6640-4C2B-B735-EDABE072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56AE-7D3F-4C7F-9D2F-C218F7F1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E5EE-8D5B-4112-AFCA-DC029ABC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5E2-B1A8-411A-A390-4E6FC5DC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FD87-2D0E-44C4-A7F6-782B070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A822-C40A-46AF-BEE1-B054B91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B79-295B-4C50-9F2A-87975E9E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6CCF-8FBA-4077-9E0F-51F2717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01C1-A32E-4A9B-99E5-8873AB3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78A4-BF64-4398-A965-51944016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7A4-6D40-42C5-B2A0-A58DF453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BB1A-7279-4EF5-A5A7-4B1A5708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2B1-5972-43AD-9625-7C251B2E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8F3-A25A-4C40-9CCE-BF00E669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5D5-7D43-498F-9A28-940E97C1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C68-0D77-4026-9C71-387FE28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F9B-2426-49C0-BF23-8516A98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F65-C4EA-4177-84CA-7087E3DE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FFB-0C79-413E-B83B-82589F7B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CCD-D548-4566-B988-7ECDEAAABCB7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E78-BF89-41E3-9779-2A859071A874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0492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858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263520"/>
            <a:ext cx="49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io fuel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9120" y="20541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133720"/>
            <a:ext cx="3200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2438280"/>
            <a:ext cx="49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y James and Michae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bio fuels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1581120" cy="168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76920" y="4952880"/>
            <a:ext cx="267336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962520" y="2590920"/>
            <a:ext cx="4502160" cy="17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mperature of g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96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know that there is such thing as temperature of gas? Well there is and it’s right 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579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sp>
        <p:nvSpPr>
          <p:cNvPr id="97" name=""/>
          <p:cNvSpPr/>
          <p:nvPr/>
        </p:nvSpPr>
        <p:spPr>
          <a:xfrm>
            <a:off x="2971800" y="2743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76176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s to the rescu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paying too much for gas. So they should make cars run on bio fu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ey problems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7180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losing millions of dollars in cash for fue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3200" y="8305920"/>
          <a:ext cx="278136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8305920"/>
                    <a:ext cx="2781360" cy="43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e3e5c"/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258040" y="1900080"/>
            <a:ext cx="200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651040"/>
            <a:ext cx="156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604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 fuels are good for the atmosphe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al gas tank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5280" y="2209680"/>
            <a:ext cx="2898720" cy="43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 limi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9920" y="16761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bio fuels can only be used in diesel car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39:29Z</dcterms:created>
  <dc:creator>Englewood Schools</dc:creator>
  <dc:description/>
  <dc:language>en-US</dc:language>
  <cp:lastModifiedBy>Englewood Schools</cp:lastModifiedBy>
  <dcterms:modified xsi:type="dcterms:W3CDTF">2010-05-24T17:44:07Z</dcterms:modified>
  <cp:revision>10</cp:revision>
  <dc:subject/>
  <dc:title>  </dc:title>
</cp:coreProperties>
</file>