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ct" ContentType="image/x-pict"/>
  <Override PartName="/ppt/media/image6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8E8-FD4E-4FBB-B630-D1FFEAE9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AF4-7425-4665-B307-6030E800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82B-A949-4C4D-9C29-70217C60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F11-B547-49F8-B66F-59FA0403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40E2-075C-4E0B-B84F-D97A1F7A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01E3-AB26-48A7-8B09-EB11F3CF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4BC8-3646-4807-99E3-263B73C8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F3E8-FF3C-44EA-8D75-7BC59DC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D460-B2EB-4F3A-B052-CBE5CFDD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619B-355D-4BD6-9751-78042104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3101-C7B5-44F1-8517-BCFE544B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84C-2A9C-464D-87C8-F502122E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F165-2EE8-4DE8-A46F-9EC46E23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75D6-92E6-4111-9711-C2DAFD96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CFC4-83C4-4A88-B05D-5AA9B132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BF94-7317-48A6-B94B-F236C0BD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1B1-6D5F-4143-9052-EA9CF889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9FF-3652-4148-ADF3-2B6A2CF8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A2F-A9D2-4FFC-B09B-1A35423D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709-FB77-4BEE-819D-7F98A45A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B95-6DD5-4EAD-BCC6-ED33FFA8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EBC-0F65-410C-9C86-FCB68BA8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616-CDE1-4C8A-988A-49D73D2A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087-5415-4658-B305-D78932EF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A9F2-16EA-4A09-8FBD-74D71B36A31F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0ECF-ECD2-4200-8D21-6063B6E91C27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30492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685800"/>
            <a:ext cx="556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263520"/>
            <a:ext cx="49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io fuel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9120" y="20541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2133720"/>
            <a:ext cx="3200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2438280"/>
            <a:ext cx="495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y James and Michael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bio fuels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3733920"/>
            <a:ext cx="1581120" cy="168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76920" y="4952880"/>
            <a:ext cx="2673360" cy="1905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962520" y="2590920"/>
            <a:ext cx="4502160" cy="173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3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mperature of g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296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d you know that there is such thing as temperature of gas? Well there is and it’s right 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5105520" cy="5790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  <p:sp>
        <p:nvSpPr>
          <p:cNvPr id="97" name=""/>
          <p:cNvSpPr/>
          <p:nvPr/>
        </p:nvSpPr>
        <p:spPr>
          <a:xfrm>
            <a:off x="2971800" y="2743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76176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 fuels to the rescu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124080" y="19047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 companies  are paying too much for gas. So they should make cars run on bio fue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ney problems.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71800" y="17521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 companies  are losing millions of dollars in cash for fuels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43200" y="8305920"/>
          <a:ext cx="278136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8305920"/>
                    <a:ext cx="2781360" cy="43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3e3e5c"/>
                    </a:outerShdw>
                  </a:effectLst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8258040" y="1900080"/>
            <a:ext cx="200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651040"/>
            <a:ext cx="156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604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o fuels are good for the atmospher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al gas tank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245280" y="2209680"/>
            <a:ext cx="2898720" cy="43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o fuel limi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19920" y="16761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bio fuels can only be used in diesel car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39:29Z</dcterms:created>
  <dc:creator>Englewood Schools</dc:creator>
  <dc:description/>
  <dc:language>en-US</dc:language>
  <cp:lastModifiedBy>Englewood Schools</cp:lastModifiedBy>
  <dcterms:modified xsi:type="dcterms:W3CDTF">2010-05-24T17:44:07Z</dcterms:modified>
  <cp:revision>10</cp:revision>
  <dc:subject/>
  <dc:title>  </dc:title>
</cp:coreProperties>
</file>