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FEE-C2F4-44BB-9A7A-0BF47DFF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F60-CAAB-4626-99E1-D6BB4EAB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5FD-DAD6-4A21-9131-CE5B739C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651-3834-4D81-8130-7EE3405A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6B04-EFE4-4D53-B9D0-B7934F9A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790A-115E-4AA6-B52E-D524C65F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40CD-56A7-4AA3-A3DB-C5231F56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15A8-E3E0-4998-BF69-2230E18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5A4D-973F-4102-A6B2-CCEEEAE3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19C8-2F77-4E1D-A099-E4B6D578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082-FEC6-4445-9E5F-3810826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8C0-5438-47E5-B6BE-73B26F2D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0CA1-F81F-47AA-82FB-615A00E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7555-378B-45B1-831A-AC7B96A5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0C2A-9045-42FF-9C80-8D5D5152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B6E5-09C2-4CC1-A1B8-F0E8BB47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19BB-AA34-4D65-8B04-E46BC86B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037-C338-455B-9532-CA17838A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09E-8C3B-4C44-8A9E-17CA9BB8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160-DBD8-424B-8648-A9476ED1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C23-8B45-451E-944F-EFFEE808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08D-A193-4D65-B444-13EC0D0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D81-AFEB-4BF3-995A-03443576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363-53B9-4067-9010-841EB552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E0A1-5988-453A-A6AE-08B88981187C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0218-A398-4DDD-8BB8-5D2C1DFAEBCA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google.com/videoplay?docid=6121325902129285904&amp;ei=16MFS8HfNZ7cqALFsb3hCA&amp;q=pangea+animation&amp;hl=en&amp;client=safari#docid=5917408237653189711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arthquak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hey change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 James Shar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29000" y="2552760"/>
            <a:ext cx="5715000" cy="428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angae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2057040"/>
            <a:ext cx="53337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ce the Earth was called Pangaea a huge continent.It took 1 million years to split ap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Tahoma"/>
                <a:hlinkClick r:id="rId2"/>
              </a:rPr>
              <a:t>Click here for Pangaea 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1906 California Earthquak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81760" y="17521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in California a huge Earthquake almost destroyed Californ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024520" cy="533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laska split apar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go to Alaska it could split apart so be carefu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382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thquake Dete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74320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detect Earthquakes with detection scann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5791320" cy="480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6:25:28Z</dcterms:created>
  <dc:creator>Englewood Schools</dc:creator>
  <dc:description/>
  <dc:language>en-US</dc:language>
  <cp:lastModifiedBy>Englewood Schools</cp:lastModifiedBy>
  <dcterms:modified xsi:type="dcterms:W3CDTF">2009-11-20T17:02:20Z</dcterms:modified>
  <cp:revision>11</cp:revision>
  <dc:subject/>
  <dc:title>Earthquakes</dc:title>
</cp:coreProperties>
</file>