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B9A-1AB0-4AEA-9131-5678B220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888-AF25-406F-B1A8-971B8AFB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F19-7623-447D-8092-5E05FE41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3FF-F79B-40BC-B2C7-1E0082ED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AD90-661A-4C5F-8903-618387E3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BBA8-C048-438A-84D9-D7EC88D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33D9-907D-4050-812C-31CB386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4A4-DB96-471A-8FB0-4D42671B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0BF8-A1E8-4EFD-8AB6-D138DF52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AD0C-D76E-43FC-80C1-BA42057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CEEF-1526-4D03-9BC6-58FFB89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155-81AD-4B83-9796-2B752A6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D27C-A4D4-4C5F-84F6-04FAE1F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683A-FF40-462F-B587-C6D2CC2A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B9AC-8373-4BA3-85C4-AF802DF9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4FDF-D9B7-4CFE-AA48-DBDF2BA4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C7EF-1395-440C-A6AD-79CF92EA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AFF-76A4-4989-9392-41608289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376-A6DB-4933-BE73-3289B788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B70-D041-4C7D-B304-4F29717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63E-568C-47BA-929E-3E57B1B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9DE-02B8-4196-AB43-A92EFBE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EBC-31CC-46AB-B390-8AA4A2F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17A-2AC0-40D1-9E49-97431C6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0E00-7270-483E-81BB-0531234122E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EDC-A467-4ACE-BF9F-0E8699EE5B0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google.com/videoplay?docid=6121325902129285904&amp;ei=16MFS8HfNZ7cqALFsb3hCA&amp;q=pangea+animation&amp;hl=en&amp;client=safari#docid=5917408237653189711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quak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y change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James Shar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29000" y="2552760"/>
            <a:ext cx="5715000" cy="428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angae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2057040"/>
            <a:ext cx="53337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ce the Earth was called Pangaea a huge continent.It took 1 million years to split ap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ahoma"/>
                <a:hlinkClick r:id="rId2"/>
              </a:rPr>
              <a:t>Click here for Pangaea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1906 California Earthquak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8176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in California a huge Earthquake almost destroyed Califor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024520" cy="533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laska split apar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go to Alaska it could split apart so be caref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382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thquake Det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74320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detect Earthquakes with detection scan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791320" cy="480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6:25:28Z</dcterms:created>
  <dc:creator>Englewood Schools</dc:creator>
  <dc:description/>
  <dc:language>en-US</dc:language>
  <cp:lastModifiedBy>Englewood Schools</cp:lastModifiedBy>
  <dcterms:modified xsi:type="dcterms:W3CDTF">2009-11-20T17:02:20Z</dcterms:modified>
  <cp:revision>11</cp:revision>
  <dc:subject/>
  <dc:title>Earthquakes</dc:title>
</cp:coreProperties>
</file>