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B7C-6DE8-4549-8BAF-4D1BBD43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E6C-0750-49AC-8506-3AE14F9C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CED-4C00-4921-ADD0-80CF607B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8E2-362B-46B0-93A7-73DFA24D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EFD7-D565-44CC-B076-76C346CC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34B2-E1F2-4CDD-BFC8-3CA1EA33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3A65-7F09-4954-BBBA-0A834E01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8B81-49FE-4DA3-BBA0-764F3F10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9760-E9FF-47B2-BCC2-A4D7F04F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00B9-895C-47CC-A377-7D454668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6C39-5C96-49E3-B71C-84B9F8D0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EE1-795C-4993-BE9E-8F061E92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D946-D76C-4F12-A979-6002BA98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DD80-FCF3-4408-B213-6EDCDED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D866-C7F2-4868-B33D-D8B6EC09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D202-CDB7-4F06-9356-FC88027F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6E34-6ACA-4562-A7FA-5AB44141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92F-78AE-457B-BDFA-5F04F7EF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0AE-EDB1-4980-9A8C-DD0E71BB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191-E66A-40BD-BDD5-E3E584E4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D28-25A7-44E7-87D2-ED35A9A5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D49-E3B0-423A-A383-908E4C9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4DF-E85D-4B8B-82CB-2EAC88DA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F59-EF67-4360-9EC5-0D583042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067B-A99D-470C-BF4F-80618A0C17F4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957F-22BD-478F-BFBC-965EF9ACC8E4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google.com/videoplay?docid=6121325902129285904&amp;ei=16MFS8HfNZ7cqALFsb3hCA&amp;q=pangea+animation&amp;hl=en&amp;client=safari#docid=5917408237653189711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arthquak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hey change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 James Shar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29000" y="2552760"/>
            <a:ext cx="5715000" cy="428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angae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2057040"/>
            <a:ext cx="53337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nce the Earth was called Pangaea a huge continent.It took 1 million years to split ap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Tahoma"/>
                <a:hlinkClick r:id="rId2"/>
              </a:rPr>
              <a:t>Click here for Pangaea vid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1906 California Earthquak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81760" y="17521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in California a huge Earthquake almost destroyed Californ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5024520" cy="5334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laska split apar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go to Alaska it could split apart so be carefu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382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rthquake Dete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74320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detect Earthquakes with detection scann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71800" y="2057400"/>
            <a:ext cx="5791320" cy="480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6:25:28Z</dcterms:created>
  <dc:creator>Englewood Schools</dc:creator>
  <dc:description/>
  <dc:language>en-US</dc:language>
  <cp:lastModifiedBy>Englewood Schools</cp:lastModifiedBy>
  <dcterms:modified xsi:type="dcterms:W3CDTF">2009-11-20T17:02:20Z</dcterms:modified>
  <cp:revision>11</cp:revision>
  <dc:subject/>
  <dc:title>Earthquakes</dc:title>
</cp:coreProperties>
</file>