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21B1-933D-48D6-B388-D28B707C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59F-3CB2-4789-A84D-2D501F9C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EA9-A9F7-4E1B-BE7D-EFE40E4F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AEF-EA40-4CD5-B463-7A65236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D250-0C6D-4DE2-A9C0-B815E006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C70A-089B-4DDA-9491-313693A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9831-FCA5-4575-9C49-4F01FACF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763-CFD0-49AB-A69A-ADC476FF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FBD4-FC9B-4C6A-9CC7-FC6DE91B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46E7-EBDB-4A74-9088-C42F749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0EF-9575-487B-93C6-AF736F12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CAD-8462-48B4-8B71-00C4F3A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805-5714-4BF0-A8C1-22E32D7F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601-3615-4B1B-A2AE-CA008DD4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41A-17B1-40BB-BD56-2D19783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9DB7-9624-4649-A80F-AE188DD6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3E9A-B2AE-41E9-92CB-94F9BBBE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CDC-3DA9-4B65-9113-262A87E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660-C61D-4A0F-844A-79CE618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2C4-70D1-44D1-916D-C74CFFA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EEC-28ED-44F2-91D2-98CD4798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E00-B269-4544-B1DC-4ED1BE8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8AF-9B77-4E85-B780-68B429A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DF2-BD37-4160-88EB-D207C30F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49FD-1C8E-40BC-933C-549A8B6D59B4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4A1-99C4-41B2-AAB2-08F9DFDEF61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google.com/videoplay?docid=6121325902129285904&amp;ei=16MFS8HfNZ7cqALFsb3hCA&amp;q=pangea+animation&amp;hl=en&amp;client=safari#docid=5917408237653189711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arthquak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hey change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y James Shar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429000" y="2552760"/>
            <a:ext cx="5715000" cy="428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angae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2057040"/>
            <a:ext cx="53337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ce the Earth was called Pangaea a huge continent.It took 1 million years to split apa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Tahoma"/>
                <a:hlinkClick r:id="rId2"/>
              </a:rPr>
              <a:t>Click here for Pangaea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906 California Earthquak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81760" y="175212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ce in California a huge Earthquake almost destroyed Californ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5024520" cy="5334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laska split apar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278136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go to Alaska it could split apart so be care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876920" y="2743200"/>
            <a:ext cx="3962160" cy="3382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quake Detection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7432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detect Earthquakes with detection scan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71800" y="2057400"/>
            <a:ext cx="5791320" cy="4800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6:25:28Z</dcterms:created>
  <dc:creator>Englewood Schools</dc:creator>
  <dc:description/>
  <dc:language>en-US</dc:language>
  <cp:lastModifiedBy>Englewood Schools</cp:lastModifiedBy>
  <dcterms:modified xsi:type="dcterms:W3CDTF">2009-11-20T17:02:20Z</dcterms:modified>
  <cp:revision>11</cp:revision>
  <dc:subject/>
  <dc:title>Earthquakes</dc:title>
</cp:coreProperties>
</file>